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BD7-9267-49C5-BA81-D7B0A0BC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F66-4329-40F7-A371-7083B5F3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6C3-FC92-4FB5-9782-F419FFE4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2A1-06A5-4C22-9FCD-BC60DE00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A60-7606-4426-911E-11ED88D4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FD6-DA38-4FDB-8C38-137023AC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0C8-928F-48E3-807A-5B1CD6F3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6D0-3F44-49EF-AE5C-D7A59FB1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A29-6C02-4EC1-A3F6-43022BAB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96F-5641-4C69-BEEC-6D738F0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628-F9AC-46A3-9381-4B5EC2C3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609-56DF-4F61-8F51-64E0112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FE77-8A7D-4297-966C-411C66071B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290680" y="392904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st eine Suchmaschine im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91040" y="5392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5423400" y="481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udapest ist die Hauptstadt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643040" y="39290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nennt man die einzige weibliche Figur beim Sch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317600" y="48164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rst 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421960" y="48164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442840" y="544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ad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338840" y="54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äu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5421960" y="48164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643040" y="39290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nennt man die einzige weibliche Figur beim Sch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500200" y="3929040"/>
            <a:ext cx="44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bringt laut einem Sprichwort Glü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17600" y="48164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ü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423760" y="48164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ie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443200" y="5445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che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334880" y="5445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fe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443200" y="5445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che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0200" y="3929040"/>
            <a:ext cx="44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bringt laut einem Sprichwort Glü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928800" y="39290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haben Tennis, Tischtennis, Volleyball und Badminton gemeins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318680" y="481644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chlä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407200" y="4816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439960" y="5445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341720" y="5445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under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439960" y="5445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39290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haben Tennis, Tischtennis, Volleyball und Badminton gemeins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071720" y="39290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Finger haben die Mitglieder der Simpsons an einer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096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071720" y="39290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Finger haben die Mitglieder der Simpsons an einer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21472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Land grenzt nicht an die Schwei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419800" y="48164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438160" y="5445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0652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405800" y="4797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90680" y="392904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st eine Suchmaschine im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140652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21472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Land grenzt nicht an die Schwei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235728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Zu welchem Land gehört die Insel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225400" y="4797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22720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26612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267200" y="47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1267200" y="47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35728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Zu welchem Land gehört die Insel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857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 welchem Land kann man nicht mit Euro zah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227920" y="47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226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266840" y="5445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268640" y="4797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448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226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857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 welchem Land kann man nicht mit Euro zah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448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14308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nstrument ist kein Blasinstru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756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Xylop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r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648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larin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4320" y="4797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b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522756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Xylop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14308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nstrument ist kein Blasinstru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78604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Kanten hat ein Würf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222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22324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2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180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1262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78604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Kanten hat ein Würf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3000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breit ist ein Fussball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64680" y="54450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937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92360" y="3929040"/>
            <a:ext cx="38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he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ß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t die Hauptstadt der Türk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000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breit ist ein Fussball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52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92360" y="3929040"/>
            <a:ext cx="38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he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ß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t die Hauptstadt der Türk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857240" y="39290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Harry Potter Bücher sind bisher erschie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944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4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1312920" y="5392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289120" y="54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857240" y="39290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Harry Potter Bücher sind bisher erschie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928880" y="392904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er sang den berühmten Hit 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31760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42700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44716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34316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42700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928880" y="392904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er sang den berühmten Hit 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udapest ist die Hauptstadt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320480" y="48164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lowe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23400" y="481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4284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oa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341000" y="54450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umä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03:27Z</dcterms:modified>
  <cp:revision>56</cp:revision>
  <dc:subject/>
  <dc:title>Folie 1</dc:title>
</cp:coreProperties>
</file>